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907588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2"/>
          </p:nvPr>
        </p:nvSpPr>
        <p:spPr>
          <a:xfrm>
            <a:off x="378000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608040" y="731520"/>
            <a:ext cx="5400720" cy="374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872640" y="4716360"/>
            <a:ext cx="4869000" cy="44719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 Tele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"/>
          </p:nvPr>
        </p:nvSpPr>
        <p:spPr>
          <a:xfrm>
            <a:off x="3780000" y="94312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4F8C9B8-3F2C-4ABA-B907-A1061249A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780000" y="94312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90B9581-4815-42C7-873E-9DF5358520F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08040" y="731880"/>
            <a:ext cx="5400720" cy="3740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72640" y="4716360"/>
            <a:ext cx="4869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ymbol zastępczy stopki 4"/>
          <p:cNvSpPr/>
          <p:nvPr/>
        </p:nvSpPr>
        <p:spPr>
          <a:xfrm>
            <a:off x="0" y="94312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P Tele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111320" y="743040"/>
            <a:ext cx="44416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21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10960"/>
            <a:ext cx="89917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03840"/>
            <a:ext cx="89917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4120" y="150660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64120" y="3903840"/>
            <a:ext cx="4387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970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37240" y="150660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970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537240" y="3903840"/>
            <a:ext cx="289512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87DF-D0DC-489B-B5B9-D7C2A6E0A26F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3E1-2CD2-4AA4-9C26-0118CF369D41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3073-F96A-4109-81EF-A5CB4BB5B0F9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6D0F-88EB-4961-B7B9-A8E29CFF12A3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B32-66C2-4A63-9CA8-8E83C8073390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0" descr="BCG_Logotype_Regular_rev"/>
          <p:cNvPicPr/>
          <p:nvPr/>
        </p:nvPicPr>
        <p:blipFill>
          <a:blip r:embed="rId2"/>
          <a:stretch/>
        </p:blipFill>
        <p:spPr>
          <a:xfrm>
            <a:off x="2863800" y="5840280"/>
            <a:ext cx="4178520" cy="25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D4F-BBB3-4E0A-AB73-23F9E893534E}" type="slidenum"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2"/>
          <p:cNvSpPr/>
          <p:nvPr/>
        </p:nvSpPr>
        <p:spPr>
          <a:xfrm>
            <a:off x="955044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A818-61CD-44A8-AB77-996661BD9227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540B-2700-494F-A4B7-8BDF1296BAC0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B34-F80D-44CB-B296-29394DDF6A46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DC7-F15A-4884-9FF3-FE976E2ABB82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6A8-94B6-4F64-ABEB-65419F7674AB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299C-0CDA-4A69-A31D-B2DFFBF2ECA1}" type="slidenum"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Simple"/>
          <p:cNvSpPr/>
          <p:nvPr/>
        </p:nvSpPr>
        <p:spPr>
          <a:xfrm>
            <a:off x="460440" y="6700680"/>
            <a:ext cx="63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  <a:ea typeface="新細明體"/>
              </a:rPr>
              <a:t>Xxxxx-xx/Foot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5"/>
          <p:cNvSpPr/>
          <p:nvPr/>
        </p:nvSpPr>
        <p:spPr>
          <a:xfrm flipH="1">
            <a:off x="-360" y="914400"/>
            <a:ext cx="9906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0" descr=""/>
          <p:cNvPicPr/>
          <p:nvPr/>
        </p:nvPicPr>
        <p:blipFill>
          <a:blip r:embed="rId2"/>
          <a:stretch/>
        </p:blipFill>
        <p:spPr>
          <a:xfrm>
            <a:off x="8747280" y="60480"/>
            <a:ext cx="1073160" cy="7905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8991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506600"/>
            <a:ext cx="899172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228600">
              <a:spcBef>
                <a:spcPts val="400"/>
              </a:spcBef>
              <a:buClr>
                <a:srgbClr val="003366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6280" indent="-23328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8840" indent="-2300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8840" indent="-2300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6"/>
          <p:cNvSpPr/>
          <p:nvPr/>
        </p:nvSpPr>
        <p:spPr>
          <a:xfrm>
            <a:off x="457200" y="3816360"/>
            <a:ext cx="86900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0808"/>
                </a:solidFill>
                <a:latin typeface="Arial"/>
                <a:ea typeface="新細明體"/>
              </a:rPr>
              <a:t>STANOWISKO CP TELECOM </a:t>
            </a:r>
            <a:br>
              <a:rPr sz="2800"/>
            </a:br>
            <a:r>
              <a:rPr b="1" lang="pl-PL" sz="2800" spc="-1" strike="noStrike">
                <a:solidFill>
                  <a:srgbClr val="080808"/>
                </a:solidFill>
                <a:latin typeface="Arial"/>
                <a:ea typeface="新細明體"/>
              </a:rPr>
              <a:t>(OPERATORA CARREFOUR MOVA) </a:t>
            </a:r>
            <a:br>
              <a:rPr sz="2800"/>
            </a:br>
            <a:r>
              <a:rPr b="1" lang="pl-PL" sz="2800" spc="-1" strike="noStrike">
                <a:solidFill>
                  <a:srgbClr val="080808"/>
                </a:solidFill>
                <a:latin typeface="Arial"/>
                <a:ea typeface="新細明體"/>
              </a:rPr>
              <a:t>W DEBACIE UKE DOTYCZĄCEJ ASYMETRII MT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  <a:ea typeface="新細明體"/>
              </a:rPr>
              <a:t>Warszawa 23 czerwca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2" descr=""/>
          <p:cNvPicPr/>
          <p:nvPr/>
        </p:nvPicPr>
        <p:blipFill>
          <a:blip r:embed="rId1"/>
          <a:stretch/>
        </p:blipFill>
        <p:spPr>
          <a:xfrm>
            <a:off x="7478640" y="176040"/>
            <a:ext cx="22100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CP TELECOM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76320" y="1625760"/>
            <a:ext cx="579600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P Telecom jest Operatorem Carrefour M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arrefour Mova wystartowała 9 kwietnia 2008 ro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Oferta dostępna jest w sieci sklepów Carref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Usługi świadczone są w oparciu o sieć dostępową Polkomtel S.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P Telecom korzysta z własnej platformy billingowej, usługowej, systemu CRM, self-care, call cen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starter"/>
          <p:cNvPicPr/>
          <p:nvPr/>
        </p:nvPicPr>
        <p:blipFill>
          <a:blip r:embed="rId1"/>
          <a:stretch/>
        </p:blipFill>
        <p:spPr>
          <a:xfrm>
            <a:off x="6591240" y="1625760"/>
            <a:ext cx="3262320" cy="36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STAN OBECNY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6320" y="1816200"/>
            <a:ext cx="94042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ysoki poziom stawek MTR powiązany z asymetrią dla wybranych przedsiębiorstw telekomunikacyjn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Regulacje wspierające wybrany model MVNO tzw. full MV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WYSOKI POZIOM STAWEK MTR I ASYMETRIA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76320" y="1801800"/>
            <a:ext cx="94042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Wysoki poziom stawek MTR oraz asymetria stawek MTR dla wybranych przedsiębiorców stwarza znaczące bariery rozwoju dla Carrefour Mov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Aktualne warunki w zakresie asymetrii i wysokości stawek MTR powodują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że wybrane przedsiębiorstwa telekomunikacyjne otrzymują od Regulatora premię, która dodatkowo wspiera ich rozwój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owi gracze MVNO w tym Mova z uwago na brak premii regulacyjnej musi ponosić dodatkowe koszty prowadzenia biznesu (biorąc pod uwagę aktualne stawki oraz strukturę ruchu jest to koszt kilku groszy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REGULACJE WSPIERAJĄCE WYBRANY MODEL MVNO </a:t>
            </a: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tzw. FULL MVNO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76320" y="1801800"/>
            <a:ext cx="94042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rezes UKE deklarował chęć wspierania wszystkich MVNO bez względu na model funkcjonowani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odel funkcjonowania MVNO powinien być podejmowany w oparci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o decyzje biznesowe – wszystkie MVNO posiadają taką samą infrastrukturę teleinformatyczną, różnią się sposobem jej pozyskania (Mova posiada własny system billingowy, platformę usługową, CRM, CC, itp.- korzysta natomias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z sieci Polkomtel w tym także tzw. punktów styków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Regulacje mają krytyczne znaczenie dla funkcjonowania i rozwoju MVNO zarówno co do ich przewidywalności jak i równego traktowania wszystkich nowych gracz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MVNO JEST POTRZEBNE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76320" y="1801800"/>
            <a:ext cx="95644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ova podobnie jak inni MVNO wnoszą dodatkową wartość na rynku telekomunikacyjnym, której nie są wstanie dostarczyć operatorzy MNO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VNO zwiększają konkurencyjność rynku, dostarczamy wyróżniki charakterystyczne tylko dla MVNO(np. minuty za zakupy) 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za atrakcyjną ceną budujemy dodatkowe usługi i integrujemy systemy telekomunikacyjne z własnymi usługami/programami (np. uczestnicy programu lojalnościowego Carrefour Rodzyinka poprzez odpowiedni kod mogą wymaniać punkty programu na minuty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VNO zwiększają atrakcyjność, innowacyjność i nowoczesność rynku telekomunikacyjneg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960" y="-38520"/>
            <a:ext cx="90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MVNO POTRZEBUJE SILNIEJSZEGO WSPARCIA REGULATORA</a:t>
            </a:r>
            <a:endParaRPr b="1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282600" y="1371600"/>
            <a:ext cx="935820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VNO budowane są w oparciu o niskie koszty funkcjonowania w porównaniu do „wielkich” operatorów (zdecydowanie niższe budżety marketingu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MVNO musi dostarczyć atrakcyjną cenę, atrakcyjny „wyróżnik”, wysoką jakość usług przy jednoczesnym budowaniu wiarygodności i rozpoznawalności marki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Biznes MVNO obarczony jest więc dużym ryzykiem - wysoka bariera wejśc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i wyjścia z biznesu (pierwsi operatorzy zrezygnowali, inni nie uruchomili oferty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rebuchet MS"/>
              </a:rPr>
              <a:t>Krytyczna jest więc rola Regulatora, aby wszyscy nowi gracze posiadali takie same warunki wejścia, rozwoju  i konkurowania oraz znana była strategia zmian regulacyjn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6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36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08:46Z</dcterms:created>
  <dc:creator/>
  <dc:description>A4 Blank templ v1.pot</dc:description>
  <dc:language>en-US</dc:language>
  <cp:lastModifiedBy/>
  <dcterms:modified xsi:type="dcterms:W3CDTF">2009-06-22T19:23:25Z</dcterms:modified>
  <cp:revision>97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CG 2007 Template">
    <vt:bool>1</vt:bool>
  </property>
  <property fmtid="{D5CDD505-2E9C-101B-9397-08002B2CF9AE}" pid="3" name="BCG Format Name">
    <vt:lpwstr>BCG Format</vt:lpwstr>
  </property>
  <property fmtid="{D5CDD505-2E9C-101B-9397-08002B2CF9AE}" pid="4" name="Reference">
    <vt:lpwstr>BCGTemplateNew</vt:lpwstr>
  </property>
  <property fmtid="{D5CDD505-2E9C-101B-9397-08002B2CF9AE}" pid="5" name="Version">
    <vt:lpwstr>20041127</vt:lpwstr>
  </property>
</Properties>
</file>