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09640" y="311040"/>
            <a:ext cx="709632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70977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11240" y="4098960"/>
            <a:ext cx="70977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09640" y="311040"/>
            <a:ext cx="709632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4832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11240" y="409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48320" y="409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09640" y="311040"/>
            <a:ext cx="709632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1000" y="175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11120" y="175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11240" y="409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1000" y="409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11120" y="409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09640" y="311040"/>
            <a:ext cx="709632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11240" y="1758960"/>
            <a:ext cx="70977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09640" y="311040"/>
            <a:ext cx="709632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70977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09640" y="311040"/>
            <a:ext cx="709632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34635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758960"/>
            <a:ext cx="34635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09640" y="311040"/>
            <a:ext cx="709632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09640" y="311040"/>
            <a:ext cx="7096320" cy="45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09640" y="311040"/>
            <a:ext cx="709632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8320" y="1758960"/>
            <a:ext cx="34635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11240" y="409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09640" y="311040"/>
            <a:ext cx="709632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11240" y="1758960"/>
            <a:ext cx="70977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09640" y="311040"/>
            <a:ext cx="709632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34635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832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8320" y="409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09640" y="311040"/>
            <a:ext cx="709632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832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11240" y="4098960"/>
            <a:ext cx="70977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09640" y="311040"/>
            <a:ext cx="709632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70977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011240" y="4098960"/>
            <a:ext cx="70977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09640" y="311040"/>
            <a:ext cx="709632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832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11240" y="409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8320" y="409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09640" y="311040"/>
            <a:ext cx="709632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11000" y="175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11120" y="175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011240" y="409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11000" y="409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811120" y="409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09640" y="311040"/>
            <a:ext cx="709632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70977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09640" y="311040"/>
            <a:ext cx="709632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34635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48320" y="1758960"/>
            <a:ext cx="34635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09640" y="311040"/>
            <a:ext cx="709632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09640" y="311040"/>
            <a:ext cx="7096320" cy="45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09640" y="311040"/>
            <a:ext cx="709632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8320" y="1758960"/>
            <a:ext cx="34635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11240" y="409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09640" y="311040"/>
            <a:ext cx="709632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34635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832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48320" y="409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09640" y="311040"/>
            <a:ext cx="709632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832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11240" y="4098960"/>
            <a:ext cx="70977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1240" y="1758960"/>
            <a:ext cx="70977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Aft>
                <a:spcPts val="1250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Aft>
                <a:spcPts val="125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Aft>
                <a:spcPts val="1250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250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250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250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709640" y="311040"/>
            <a:ext cx="709632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25200" y="6406920"/>
            <a:ext cx="597204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Helvetica 55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Helvetica 55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560" y="6423120"/>
            <a:ext cx="736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9FA9B-61FE-46B8-B904-B96352E56F22}" type="slidenum">
              <a:rPr b="0" lang="fr-FR" sz="800" spc="-1" strike="noStrike">
                <a:solidFill>
                  <a:srgbClr val="000000"/>
                </a:solidFill>
                <a:latin typeface="Helvetica 55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216000" y="198360"/>
            <a:ext cx="603000" cy="4032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971640" y="212760"/>
            <a:ext cx="342720" cy="342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823240" y="2314440"/>
            <a:ext cx="18432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17600" y="237960"/>
            <a:ext cx="865080" cy="5781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93640" y="992160"/>
            <a:ext cx="505080" cy="5047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0" algn="ctr"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58680" algn="ctr">
              <a:spcAft>
                <a:spcPts val="56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8080" algn="ctr">
              <a:spcAft>
                <a:spcPts val="561"/>
              </a:spcAft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Aft>
                <a:spcPts val="499"/>
              </a:spcAft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0560" y="3860280"/>
            <a:ext cx="7845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6600"/>
                </a:solidFill>
                <a:latin typeface="Arial"/>
              </a:rPr>
              <a:t>Czy polski rynek zakańczania połączeń w sieciach komórkowych jest regulowany?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pl-PL" sz="1600" spc="-1" strike="noStrike">
                <a:solidFill>
                  <a:srgbClr val="ff6600"/>
                </a:solidFill>
                <a:latin typeface="Arial"/>
              </a:rPr>
              <a:t>Monika Podpłońska</a:t>
            </a:r>
            <a:br>
              <a:rPr sz="1600"/>
            </a:br>
            <a:r>
              <a:rPr b="1" lang="pl-PL" sz="1600" spc="-1" strike="noStrike">
                <a:solidFill>
                  <a:srgbClr val="ff6600"/>
                </a:solidFill>
                <a:latin typeface="Arial"/>
              </a:rPr>
              <a:t>Kierownik Działu Regulacji PTK Centertel Sp. z o.o.</a:t>
            </a:r>
            <a:endParaRPr b="1" lang="en-US" sz="16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09640" y="311040"/>
            <a:ext cx="709632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6600"/>
                </a:solidFill>
                <a:latin typeface="Arial"/>
              </a:rPr>
              <a:t>A może druga Hiszpania?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11240" y="1341360"/>
            <a:ext cx="70977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odobnie jak P4, Yoigo wszedł na rynek w 2006 r., w czasie kiedy na rynku działało trzech operatorów infrastrukturalnych i od początku działalności inwestował w budowanie własnej sieci. W końcu 2008 r. Yoigo osiągnął około 2 % udziału w rynku. W tym okresie rynek hiszpański cechował się większą dojrzałością niż rynek polski: poziom penetracji rynku hiszpańskiego wynosił 107%, zaś w przypadku rynku polskiego poziom penetracji wynosił 99,29%. Tym samym, operator wchodzący na rynek hiszpański musiał sprostać trudniejszym warunkom konkurencji niż operator wchodzący na rynek w Polsce. Pomimo tego Regulator  przewidział dla Yoigo jedynie niespełna 49-procentowy, trzyletni poziom asymetrii (48,82% asymetrii do września 2009 r.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09640" y="311040"/>
            <a:ext cx="709632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6600"/>
                </a:solidFill>
                <a:latin typeface="Arial"/>
              </a:rPr>
              <a:t>To czy jest ta regulacja rynku?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11240" y="1341360"/>
            <a:ext cx="70977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Rynek reguluje się tworząc zasady i podejmując decyzje na przyszłość (oraz stosując te zasady oraz realizując te decyzj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 nie podejmując decyzje po fakcie – tobie damy asymetrię, tobie może damy, a z tobą nie rozmawiamy, nierealizując własnych decyzji, działając niezgodnie z własnymi stanowiskami i „polityką regulacyjną”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Dziś mamy dużo (i będzie więcej) decyzji regulacyjnych dla poszczególnych operatorów i nie mamy żadnych wiarygodnych zasad i decyzji dotyczących rynk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94920" y="1989000"/>
            <a:ext cx="8497800" cy="36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2880" indent="-19044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Regulator ingeruje wyłącznie wtedy, gdy zidentyfikuje problemy rynkowe i tylko na podstawie prawa i w granicach prawa (art. 31 konstytucji – zakaz nieuprawnionej ingerencji w swobodę działalności gospodarczej), cele regulacji określone są Dyrektywach i P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19044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peratorzy to przedsiębiorcy nastawieni na zysk i działający na zasadach handlowych (przepisy konstytucji i ust. o swobodzie dzi.gosp.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3280" y="404640"/>
            <a:ext cx="7128000" cy="7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6600"/>
                </a:solidFill>
                <a:latin typeface="Arial"/>
              </a:rPr>
              <a:t>Podstawy regulac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6600"/>
                </a:solidFill>
                <a:latin typeface="Arial"/>
              </a:rPr>
              <a:t>Podstawy działalności gospodarcze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94920" y="1268280"/>
            <a:ext cx="849780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2880" indent="-19044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Czy Regulator działa świadomie? Czy wprowadził asymetrię stawek MT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Aft>
                <a:spcPts val="56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aradoks regulacyjny: jedyne stanowisko regulatora dotyczy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symetrii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ającej obowiązywać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od I/2014 r. czyli 8 lat po wejściu na rynek P4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4 lata to maksymalny okres,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tóry przewiduje  obowiązujące Zalecenie KE)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- ostateczny termin to 12/201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Aft>
                <a:spcPts val="56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Już są zapowiedzi, że regulator nie będzie postępował zgodnie ze swoim stanowiskiem: informacja udzielona w trakcie wywiadu o możliwym opóźnieniu obniżki stawek w 2010, nie widomo, czy w jakikolwiek sposób wprowadzi przewidywane obniżki stawek w P4 i 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Aft>
                <a:spcPts val="56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ważne jest stworzenie jasnych wytycznych i zasad rozliczeń za zakańczanie połączeń  dla inwestorów telekomunikacyjnyc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Aft>
                <a:spcPts val="56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 jakich wytycznych mogą oprzeć swój biznes nowo wchodzący operatorzy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03280" y="404640"/>
            <a:ext cx="7128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6600"/>
                </a:solidFill>
                <a:latin typeface="Arial"/>
              </a:rPr>
              <a:t>Asymetria MTR – skąd się wzięł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94920" y="1268280"/>
            <a:ext cx="849780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63680" indent="-38124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Rys historyczn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5480" indent="-342720">
              <a:spcAft>
                <a:spcPts val="56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tawki MTR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ymetryczne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pomiędzy 3 operatorami infrastrukturalnymi do 2007 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5480" indent="-342720">
              <a:spcAft>
                <a:spcPts val="56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ecyzja zastępująca umowę o połączeniu sieci pomiędzy PTK a Polsatem Cyfrowym (kwiecień 2008) – ustaliła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ymetryczne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stawki na poziomie 40 gr/min, wg. opinii Prezesa UKE „zgodnie z wolą stron”  - pomijała jednak milczeniem fakt, że Prezes UKE decyzją z lipca 2007 r. nałożył na PTK obowiązek obniżki MTR do 33,87 gr/min od 1 maja 2008 r. –Prezes UKE wydał więc decyzję zastępującą umowę międzyoperatorską, która przewidywała symetryczne rozliczenia w okresie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2 tygod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5480" indent="-342720">
              <a:spcAft>
                <a:spcPts val="56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mowa IC PTK z P4 z dnia 20 listopada 2006 r. określała stawki symetryczne 65-48-40 gr/min – zmieniły to dopiero jednostronne decyzje UKE w zakresie stawek MTR w sieci PTK i pozostałych 2 M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5480" indent="-342720">
              <a:spcAft>
                <a:spcPts val="56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Żaden z nowowchodzących operatorów na rynek nie wnioskował do UKE o asymetri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03280" y="404640"/>
            <a:ext cx="7128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6600"/>
                </a:solidFill>
                <a:latin typeface="Arial"/>
              </a:rPr>
              <a:t>Asymetria MTR – skąd się wzięł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94920" y="1268280"/>
            <a:ext cx="849780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63680" indent="-381240">
              <a:lnSpc>
                <a:spcPct val="90000"/>
              </a:lnSpc>
              <a:spcAft>
                <a:spcPts val="1001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Bo nie są konsultowane ani z rynkiem ani z 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3680" indent="-381240">
              <a:lnSpc>
                <a:spcPct val="90000"/>
              </a:lnSpc>
              <a:spcAft>
                <a:spcPts val="1001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Bo UKE upiera się przy swojej interpretacji, że nie są to obowiązki regulacyjne – wskazuje inny tryb odwołania (do WSA zamiast do SOKIK, rezygnuje z konieczności notyfikowania decyzji KE i wzięcia opinii KE pod uwagę – pomimo istniejących orzeczeń NSA/WS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3680" indent="-381240">
              <a:lnSpc>
                <a:spcPct val="90000"/>
              </a:lnSpc>
              <a:spcAft>
                <a:spcPts val="1001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Bo UKE odbiera prawo do sądu operatorom poprzez „niezwłoczne” przekazywanie akt do sądu – niezwłoczność w przypadku decyzji z września 2008 r. wyniosła 4 miesiące! (30/01/2009). A cały  proces sądowy zaczyna się toczyć po ok. 2 latach od wydania decyzj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3680" indent="-381240">
              <a:lnSpc>
                <a:spcPct val="90000"/>
              </a:lnSpc>
              <a:spcAft>
                <a:spcPts val="1001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Bo uwzględniają koszty innych przedsiębiorców, a powinny uwzględniać koszty konkretnego przedsiębiorcy  „</a:t>
            </a:r>
            <a:r>
              <a:rPr b="1" i="1" lang="pl-PL" sz="1600" spc="-1" strike="noStrike">
                <a:solidFill>
                  <a:srgbClr val="000000"/>
                </a:solidFill>
                <a:latin typeface="Arial"/>
              </a:rPr>
              <a:t>przeciwne rozumowanie doprowadziłoby bowiem do sytuacji w której Polsat Cyfrowy byłby zobowiązany do (..) stosowania obowiązku  który nie został na niego nałożony (chodzi o art. 40 ust. 4 PT) a po drugie, co jest oczywistym absurdem byłyby to opłaty ponoszone w oparciu o koszty PTK a nie Polsatu Cyfrowego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”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3680" indent="-381240">
              <a:lnSpc>
                <a:spcPct val="90000"/>
              </a:lnSpc>
              <a:spcAft>
                <a:spcPts val="1001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Niezrozumiałe jest w takim razie dlaczego:  w decyzji MTR 2008 „</a:t>
            </a:r>
            <a:r>
              <a:rPr b="1" i="1" lang="pl-PL" sz="1600" spc="-1" strike="noStrike">
                <a:solidFill>
                  <a:srgbClr val="000000"/>
                </a:solidFill>
                <a:latin typeface="Arial"/>
              </a:rPr>
              <a:t>docelowa stawka MTR została wyznaczona na podstawie analizy uzasadnienia przedstawionego przez Centertel, analizy dołączonego do materiału dowodowego pisma Polkomtel (tajnego) i trendów zmian stawek na podstawie danych z dokumentów ERG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03280" y="404640"/>
            <a:ext cx="7128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6600"/>
                </a:solidFill>
                <a:latin typeface="Arial"/>
              </a:rPr>
              <a:t>Decyzje MTR – dlaczego budzą sprzeciw operatorów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94920" y="1268280"/>
            <a:ext cx="849780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63680" indent="-38124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Decyzja MTR 2007 – okazuje się że w 2007 r. byliśmy bogaci  jak Szwedzi, zaawansowani  jak Finowie i gorący jak słoneczny Cypr – stąd stawka MTR oparta o średnią z tych trzech krajów, gdzie MTR był najniższ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3680" indent="-38124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3-letni harmonogram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 „oprócz zapewnienia transparentności prowadzonych działań na rynku 16, pozwoli operatorom na dogodne planowanie swojego biznesu, a także dostosowanie inwestycji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3680" indent="-38124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peratorzy krótko cieszyli się pewnością regulacyjną –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dobrowolnie negocjując umowy międzyoperatorski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- pomimo statusu prawomocności decyzja została zastąpiona nową – we wrześniu 2008 r. ( po 17 stu miesiącach obowiązywan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3680" indent="-38124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ie wiadomo, co takiego wydarzyło się na rynku w 2008 roku, że trzeba było przyspieszyć obniżkę MTR i „przy okazji” zapewnić znacznie większą asymetrię dla P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03280" y="404640"/>
            <a:ext cx="71280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6600"/>
                </a:solidFill>
                <a:latin typeface="Arial"/>
              </a:rPr>
              <a:t>Operatorzy dowiedli już ze są w stanie zaakceptować najdziwniejsze uzasadnie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94920" y="1268280"/>
            <a:ext cx="849780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3" marL="1720800" indent="0">
              <a:lnSpc>
                <a:spcPct val="80000"/>
              </a:lnSpc>
              <a:spcAft>
                <a:spcPts val="437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Aft>
                <a:spcPts val="1001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Obecna praktyka UKE w zakresie wydawania decyzji zmieniających umowy międzyoperatorskie zgodnie z decyzją MTR 2008  – jest sprzeczna z założeniami regulacyjnymi bo powoduje: uprzywilejowanie pozycji wcześniejszych wnioskodawców, względem późniejszych – kto pierwszy uzyska decyzję w zakresie obniżki MTR, ten ma szansę na większe przychody z tranzytu połączeń przez swoją sie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Aft>
                <a:spcPts val="1001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czasowe asymetrie pomiędzy równorzędnymi podmiotami – PTK –PTC-Polkomtel – sytuacja ze I/2009 r. – straty rzędu 12-15 milionów miesięcznie (1,5 miesią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Aft>
                <a:spcPts val="1001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zamieszanie na rynku komórkowym” – wg. UKE brak konieczności wydawania decyzji w tym samym czasie, całkowity brak zainteresowania negatywnymi konsekwencjami dla przedsiębiorców telekomunikacyjnych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Aft>
                <a:spcPts val="1001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argumenty MNO, że wystarczyłoby skorelowanie 3 decyzji w tym samym czasie, prośby do UKE o zgodę na jednoczesne stawienie się pełnomocników pozostały bez odpowiedz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Aft>
                <a:spcPts val="1001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Dlaczego Regulator nie zadziałał z urzędu i nie wydał decyzji w tym samym czasie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Aft>
                <a:spcPts val="1001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Dlaczego dopuścił do sytuacji, w której standardem stają się 2 decyzje regulujące ten sam przedmiot umowy – w do tej pory symetrycznych relacjach, doręczane w różnym czasie, mają ogromne szanse być rozpatrzone inaczej przez różne składy sędziowskie – konsekwencje tego postępowania są dziś nawet trudne do oszacowa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Aft>
                <a:spcPts val="1001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Dlaczego Regulator wydając kolejne decyzje w tej samej sprawie i widząc już skutki wydanych decyzji na okres 6 miesięcy – kontynuuje swoją praktykę wydawania decyzji w różnym czasie, pomimo ponawianych próśb ze strony operatorów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03280" y="404640"/>
            <a:ext cx="71280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6600"/>
                </a:solidFill>
                <a:latin typeface="Arial"/>
              </a:rPr>
              <a:t>Działania UKE w 2009 r.  w zakresie MTR – Czy na tym polega „pewność regulacyjna”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94920" y="1268280"/>
            <a:ext cx="849780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lnSpc>
                <a:spcPct val="80000"/>
              </a:lnSpc>
              <a:spcAft>
                <a:spcPts val="1125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Jakie UKE identyfikuje problemy rynkow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5480" indent="-34272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czy są to zawyżone ceny detaliczne ? (w UE mamy jedne z najniższy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5480" indent="-34272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czy są to zawyżone MTR ? (w UE mamy jedne z najniższy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5480" indent="-34272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czy z powodu „zawyżonych” MTR inni operatorzy nie mogą wejść na rynek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5480" indent="-34272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Może jakaś bariera, o której regulator zapomniał poinformować rynek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Aft>
                <a:spcPts val="1125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Jeśli są bariery wejścia to co doprowadziło do barier dla nowych podmiotów (MNO, MVNO)? Czy przypadkiem ni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5480" indent="-34272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spadek cen detalicznych spowodowany przez P4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5480" indent="-34272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zawyżone stawki MTR w sieci P4, z których to mogą finansować oferty detalicz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5480" indent="-34272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A zatem czy nowy operator infrastrukturalny (poza P4), przy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dalszym spadku MTR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niskich cenach detalicznych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wysokich MTR w P4 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jest w stanie pozyskać zwrot z inwestycji w budowę 5 alternatywnej sieci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5480" indent="-34272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czy uda mu się stworzyć konkurencyjną ofertę na rynku detalicznym, a tym samym pozyskać abonentów przynoszących zysk (powinien zaoferować cenę detaliczną mniejszą niż 25 gr/min a musi płacić 57 gr/min za MTR w P4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5480" indent="-34272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czy obniżka MTR ma powstrzymać kanibalizację rynku stacjonarnego 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0176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o dotychczasowych obniżkach MTR nie zmniejszył się chur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0176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zawyżone MTR w sieci P4 nadal utrzymują przekonanie o nieatrakcyjności połączeń do sieci mobilny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403280" y="404640"/>
            <a:ext cx="7128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6600"/>
                </a:solidFill>
                <a:latin typeface="Arial"/>
              </a:rPr>
              <a:t>Bariery wejścia na rynek – czy to nie skutek regulacji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94920" y="1268280"/>
            <a:ext cx="849780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lnSpc>
                <a:spcPct val="90000"/>
              </a:lnSpc>
              <a:spcAft>
                <a:spcPts val="1001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Czy kolejna decyzja MTR we wrześniu czy raczej w styczniu 2010 – jak długi mamy horyzont czasowy do działania w niezmienionej sytuacji regulacyjnej (MNO, MVN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Aft>
                <a:spcPts val="1001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Jaki będzie termin obniżenia stawek w sieci P4 i Polsatu Cyfrowego? – zgodnie ze stanowiskiem UKE decyzje powinny ukazać się 1 lip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Aft>
                <a:spcPts val="1001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Dlaczego wnioski MNO procesowane są tak długo? dlaczego do tej pory żaden projekt nie ukazał się na stronie UKE, a otrzymujemy już zawiadomienia o zakończeniu postępowani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Aft>
                <a:spcPts val="1001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Jakiego rodzaju inwestycje uzasadniać będą uzyskanie asymetrii stawek do 2013 r.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Aft>
                <a:spcPts val="1001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CP jako MVNO otrzymało asymetryczną stawkę. Regulator (nie w oficjalnych dokumentach) mówił o „wyższości” operatora Full MVNO nad operatorami z mniejszym zaangażowaniem w infrastrukturę. Ponownie prosimy regulatora o szybkie poinformowanie rynku o podstawach do przyznania asymetrii dla MVNO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5480" indent="-342720">
              <a:lnSpc>
                <a:spcPct val="90000"/>
              </a:lnSpc>
              <a:spcAft>
                <a:spcPts val="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akup jakiego sprzętu uprawnia do asymetrii; czy MSC i HLR dają większą asymetrię niż sam HLR? Ile zyskam dokupując I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5480" indent="-342720">
              <a:lnSpc>
                <a:spcPct val="90000"/>
              </a:lnSpc>
              <a:spcAft>
                <a:spcPts val="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czy muszę pokazać faktury? A może wystarczy leasing tej infrastruktury? A może współwłasność? Ale czy współwłasność z operatorem MNO jest dopuszczalna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5480" indent="-342720">
              <a:lnSpc>
                <a:spcPct val="90000"/>
              </a:lnSpc>
              <a:spcAft>
                <a:spcPts val="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a tak naprawdę to jaką korzyść przynosi dla rynku posiadanie kilku pudełek prawdopodobnie będących własnością MVNO? Czy MVNO infrastrukturalny jest bardziej konkurencyjny niż inni MVNO? Możemy porównać takich operatorów w Pols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403280" y="404640"/>
            <a:ext cx="7128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6600"/>
                </a:solidFill>
                <a:latin typeface="Arial"/>
              </a:rPr>
              <a:t>Co dalej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5T10:59:47Z</dcterms:created>
  <dc:creator> </dc:creator>
  <dc:description/>
  <dc:language>en-US</dc:language>
  <cp:lastModifiedBy>PTK CENTERTEL</cp:lastModifiedBy>
  <cp:lastPrinted>2006-12-08T11:02:13Z</cp:lastPrinted>
  <dcterms:modified xsi:type="dcterms:W3CDTF">2009-06-23T07:37:09Z</dcterms:modified>
  <cp:revision>615</cp:revision>
  <dc:subject/>
  <dc:title>Department Report : week ending 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