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2474-DD25-4B98-A826-A148D4F5696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B949-5A97-4217-96BE-817E6295995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CA5662-A650-4E94-AD94-703F53199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88E03-E282-4A6A-9924-F5322EA39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9B4A77-B996-457C-BBA1-D5D21D3D9B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53F62B-9AD9-4ABA-AA0C-EF823ACE99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153B44-F88A-4B6B-A4FD-1974181E74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E84185-403D-4F69-A118-47E0380DA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8C2D8B-3247-4F4D-93AD-7EE085062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F6699-1107-481B-B64E-30B62F47AF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2743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0E069-C0A7-4B9D-B88F-87E694F85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05D18-38F0-4687-9010-B112B4D4CF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5A9378-4A18-436D-9990-10B167F78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49E718-06B9-487C-B3FF-0F0647765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grpSp>
        <p:nvGrpSpPr>
          <p:cNvPr id="3" name="Group 25"/>
          <p:cNvGrpSpPr/>
          <p:nvPr/>
        </p:nvGrpSpPr>
        <p:grpSpPr>
          <a:xfrm>
            <a:off x="7596360" y="5300640"/>
            <a:ext cx="1368360" cy="1368360"/>
            <a:chOff x="7596360" y="5300640"/>
            <a:chExt cx="1368360" cy="1368360"/>
          </a:xfrm>
        </p:grpSpPr>
        <p:sp>
          <p:nvSpPr>
            <p:cNvPr id="4" name="AutoShape 20"/>
            <p:cNvSpPr/>
            <p:nvPr/>
          </p:nvSpPr>
          <p:spPr>
            <a:xfrm>
              <a:off x="8478720" y="5300640"/>
              <a:ext cx="419400" cy="1230480"/>
            </a:xfrm>
            <a:prstGeom prst="upArrow">
              <a:avLst>
                <a:gd name="adj1" fmla="val 50000"/>
                <a:gd name="adj2" fmla="val 73348"/>
              </a:avLst>
            </a:prstGeom>
            <a:solidFill>
              <a:srgbClr val="33cc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21"/>
            <p:cNvSpPr/>
            <p:nvPr/>
          </p:nvSpPr>
          <p:spPr>
            <a:xfrm>
              <a:off x="7596360" y="6213600"/>
              <a:ext cx="1235160" cy="410040"/>
            </a:xfrm>
            <a:prstGeom prst="leftArrow">
              <a:avLst>
                <a:gd name="adj1" fmla="val 50000"/>
                <a:gd name="adj2" fmla="val 75307"/>
              </a:avLst>
            </a:prstGeom>
            <a:solidFill>
              <a:srgbClr val="99cc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Oval 22"/>
            <p:cNvSpPr/>
            <p:nvPr/>
          </p:nvSpPr>
          <p:spPr>
            <a:xfrm>
              <a:off x="8390520" y="6076800"/>
              <a:ext cx="574200" cy="59220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 name="Picture 5" descr=""/>
          <p:cNvPicPr/>
          <p:nvPr/>
        </p:nvPicPr>
        <p:blipFill>
          <a:blip r:embed="rId2"/>
          <a:stretch/>
        </p:blipFill>
        <p:spPr>
          <a:xfrm>
            <a:off x="179280" y="5950080"/>
            <a:ext cx="2845080" cy="680760"/>
          </a:xfrm>
          <a:prstGeom prst="rect">
            <a:avLst/>
          </a:prstGeom>
          <a:ln w="0">
            <a:noFill/>
          </a:ln>
          <a:effectLst>
            <a:outerShdw dist="107932" dir="8100000" blurRad="0" rotWithShape="0">
              <a:srgbClr val="808080">
                <a:alpha val="50000"/>
              </a:srgbClr>
            </a:outerShdw>
          </a:effectLst>
        </p:spPr>
      </p:pic>
      <p:sp>
        <p:nvSpPr>
          <p:cNvPr id="8" name="Rectangle 24"/>
          <p:cNvSpPr/>
          <p:nvPr/>
        </p:nvSpPr>
        <p:spPr>
          <a:xfrm>
            <a:off x="7956720" y="260280"/>
            <a:ext cx="1187280" cy="1152720"/>
          </a:xfrm>
          <a:prstGeom prst="rect">
            <a:avLst/>
          </a:prstGeom>
          <a:solidFill>
            <a:srgbClr val="cc00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8244000" y="6165720"/>
            <a:ext cx="682560" cy="331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l-PL"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71C9-6A11-4129-9A0E-38E93C989D26}"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54"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C2F6-E120-49E8-8754-F3EE8F59107B}"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tanowisko 3.MNO w sprawie wysokości i asymetrii stawek MTR</a:t>
            </a:r>
            <a:endParaRPr b="0" lang="en-US" sz="3600" spc="-1" strike="noStrike">
              <a:solidFill>
                <a:srgbClr val="000000"/>
              </a:solidFill>
              <a:latin typeface="Arial"/>
            </a:endParaRPr>
          </a:p>
        </p:txBody>
      </p:sp>
      <p:sp>
        <p:nvSpPr>
          <p:cNvPr id="56" name="PlaceHolder 2"/>
          <p:cNvSpPr>
            <a:spLocks noGrp="1"/>
          </p:cNvSpPr>
          <p:nvPr>
            <p:ph type="subTitle"/>
          </p:nvPr>
        </p:nvSpPr>
        <p:spPr>
          <a:xfrm>
            <a:off x="395280" y="4005000"/>
            <a:ext cx="7345440" cy="1423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Arial"/>
              </a:rPr>
              <a:t>Opracowanie przygotowane przez 3.MNO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Arial"/>
              </a:rPr>
              <a:t>pod patronatem Polskiej Izby Informatyki i Telekomunikacji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Arial"/>
              </a:rPr>
              <a:t>na debatę w Urzędzie Komunikacji Elektronicznej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Arial"/>
              </a:rPr>
              <a:t>na dzień 23 czerwca 2009 ro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03"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5B29-E39F-42FC-9C0A-DE8448711C80}"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ktualności ze świata</a:t>
            </a:r>
            <a:endParaRPr b="0" lang="en-US" sz="3200" spc="-1" strike="noStrike">
              <a:solidFill>
                <a:srgbClr val="000000"/>
              </a:solidFill>
              <a:latin typeface="Arial"/>
            </a:endParaRPr>
          </a:p>
        </p:txBody>
      </p:sp>
      <p:sp>
        <p:nvSpPr>
          <p:cNvPr id="105"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1" lang="pl-PL" sz="1600" spc="-1" strike="noStrike">
                <a:solidFill>
                  <a:srgbClr val="000000"/>
                </a:solidFill>
                <a:latin typeface="Arial"/>
              </a:rPr>
              <a:t>Ofcom executes mobile termination rate reduction (U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pril 6th, 2009 6:42 a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ww.WirelessFederation.com/news: British telecoms regulator Ofcom has reportedly ruled that mobile termination rates (MTRs) are slashed up to 2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s per the new rule, both Vodafone and O2 will cut their average mobile termination rates to GBP0.0471 (USD0.0687) per minute, a cut of 8.4% adjusted for inflation. Moreover, Orange will also reduce its rates by 11.1 % to GBP0.0484 per minute. 3, owned by Hutchison Whampoa will have to cut MTR to GBP0.0583 per minute, a 20.9% cut. This rule is driven by the regulator’s implementation of price controls for the next two years. The regulator is planning to equalize by the end of March 2011, and a further reduction in the rates is expected next year.</a:t>
            </a:r>
            <a:endParaRPr b="0" lang="en-US" sz="1600" spc="-1" strike="noStrike">
              <a:solidFill>
                <a:srgbClr val="000000"/>
              </a:solidFill>
              <a:latin typeface="Arial"/>
            </a:endParaRPr>
          </a:p>
        </p:txBody>
      </p:sp>
      <p:sp>
        <p:nvSpPr>
          <p:cNvPr id="106" name="Text Box 4"/>
          <p:cNvSpPr/>
          <p:nvPr/>
        </p:nvSpPr>
        <p:spPr>
          <a:xfrm>
            <a:off x="1665360" y="5143680"/>
            <a:ext cx="601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rPr>
              <a:t>Vodafone i O2: 0,0555 €       Orange: 0,057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rPr>
              <a:t> </a:t>
            </a:r>
            <a:r>
              <a:rPr b="1" lang="pl-PL" sz="1800" spc="-1" strike="noStrike">
                <a:solidFill>
                  <a:srgbClr val="ff0000"/>
                </a:solidFill>
                <a:latin typeface="Arial"/>
              </a:rPr>
              <a:t>Hutchinson   : 0,0687 €       brak asymetrii od  03.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08"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668A-B3C8-4383-A6F1-0DDD17AAA628}"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0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r>
              <a:rPr b="0" lang="pl-PL" sz="1200" spc="-1" strike="noStrike">
                <a:solidFill>
                  <a:srgbClr val="000000"/>
                </a:solidFill>
                <a:latin typeface="Arial"/>
              </a:rPr>
              <a:t>Mając na uwadze powyższe, Komisja podkreśla obowiązek Prezesa UKE do notyfikowania, na podstawie art. 7 ust. 3 dyrektywy ramowej, jakichkolwiek przyszłych projektów decyzji w sprawie obowiązku kontroli cen, który obejmowałby, w sposób przejrzysty i spójny, metodologię ustalania stawek za zakańczanie połączeń oraz wynikające z niej stawki. </a:t>
            </a:r>
            <a:br>
              <a:rPr sz="1200"/>
            </a:br>
            <a:r>
              <a:rPr b="0" lang="pl-PL" sz="1200" spc="-1" strike="noStrike">
                <a:solidFill>
                  <a:srgbClr val="000000"/>
                </a:solidFill>
                <a:latin typeface="Arial"/>
              </a:rPr>
              <a:t>W tym kontekście Komisja zauważa,  że następny i ostatni krok w obecnie nałożonej ścieżce dojścia stawek MTR przewidziany został na 1 lipca 2009 roku. </a:t>
            </a:r>
            <a:r>
              <a:rPr b="1" lang="pl-PL" sz="1600" spc="-1" strike="noStrike">
                <a:solidFill>
                  <a:srgbClr val="ff3300"/>
                </a:solidFill>
                <a:latin typeface="Arial"/>
              </a:rPr>
              <a:t>W związku z tym Komisja wzywa Prezesa UKE do zdefiniowania następnych etapów obniżek cen z odpowiednim wyprzedzeniem, w celu zapewnienia pewności prawnej i dostatecznej przejrzystości dla operatorów i konsultowania tych etapów także na poziomie wspólnotowym</a:t>
            </a:r>
            <a:r>
              <a:rPr b="0" lang="pl-PL" sz="1200" spc="-1" strike="noStrike">
                <a:solidFill>
                  <a:srgbClr val="000000"/>
                </a:solidFill>
                <a:latin typeface="Arial"/>
              </a:rPr>
              <a:t>”. </a:t>
            </a:r>
            <a:br>
              <a:rPr sz="1200"/>
            </a:br>
            <a:br>
              <a:rPr sz="1200"/>
            </a:br>
            <a:r>
              <a:rPr b="0" lang="pl-PL" sz="1200" spc="-1" strike="noStrike">
                <a:solidFill>
                  <a:srgbClr val="000000"/>
                </a:solidFill>
                <a:latin typeface="Arial"/>
              </a:rPr>
              <a:t>„Mając na względzie wagę efektywnej i spójnej regulacji stawek za zakańczanie połączeń w UE oraz uwzględniając ustalenie kosztów operatora efektywnego,  Komisja, w dniu 7 maja 2009 roku, przyjęła Zalecenie w sprawie uregulowań dotyczących stawek za zakańczanie połączeń w sieciach stacjonarnych i ruchomych w UE, które rekomenduje regulatorom wdrożenie, do końca 2012 roku, metodologii długookresowych kosztów przyrostowych (LRIC) dla ustalania stawek za zakańczanie połączeń. </a:t>
            </a:r>
            <a:br>
              <a:rPr sz="1200"/>
            </a:br>
            <a:r>
              <a:rPr b="0" lang="pl-PL"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3300"/>
                </a:solidFill>
                <a:latin typeface="Arial"/>
              </a:rPr>
              <a:t>Na tej podstawie Komisja podkreśla,  że metodologia wybrana przez Prezesa UKE, tj. ceny w oparciu o ponoszone koszty, nie promuje wydajności i dlatego może być uważana jedynie za tymczasowy  środek, o krótkiej  żywotności. W związku z tym, Komisja wzywa Prezesa UKE by - podczas przeglądu właściwego rynku - zastosował się do podejścia kosztowego rekomendowanego przez Komisję, tak, aby stawki za zakańczanie połączeń, ustalone według metodologii wskazanej w wyżej wymienionym Zaleceniu, zostały wprowadzone od 31 grudnia 2012 roku”.</a:t>
            </a:r>
            <a:br>
              <a:rPr sz="1600"/>
            </a:br>
            <a:br>
              <a:rPr sz="1200"/>
            </a:br>
            <a:r>
              <a:rPr b="0" lang="pl-PL" sz="1200" spc="-1" strike="noStrike">
                <a:solidFill>
                  <a:srgbClr val="000000"/>
                </a:solidFill>
                <a:latin typeface="Arial"/>
              </a:rPr>
              <a:t>„Komisja potwierdza,  że w okresie przejściowym, równolegle z budową modelu kosztowego w zgodzie z ww. Zaleceniem, Prezes UKE mógłby użyć alternatywnych metod kontroli cen, takich jak weryfikowanie kosztów w oparciu o porównanie z innymi państwami. Jednakże metody te powinny być użyte w sposób, który służyłby promocji wydajnej i zrównoważonej konkurencji oraz maksymalizacji korzyści dla konsumentów. </a:t>
            </a:r>
            <a:br>
              <a:rPr sz="1200"/>
            </a:br>
            <a:r>
              <a:rPr b="0" lang="pl-PL" sz="1200" spc="-1" strike="noStrike">
                <a:solidFill>
                  <a:srgbClr val="000000"/>
                </a:solidFill>
                <a:latin typeface="Arial"/>
              </a:rPr>
              <a:t>Na tej podstawie Komisja uważa, że jeśli Prezes UKE decyduje się na nałożenie regulacji cenowej opartej o porównanie z innymi państwami, powinien on ostrożnie wybrać obiektywne kryteria oraz wyczerpująco uzasadnić powody, dla których uważa, że rynki właściwe w tych państwach są najodpowiedniejsze jako podstawa porównawcza, biorąc pod uwagę różnice pomiędzy warunkami na rynkach  porównywalnych i na rynku polskim”. </a:t>
            </a:r>
            <a:endParaRPr b="0" lang="en-US" sz="1200" spc="-1" strike="noStrike">
              <a:solidFill>
                <a:srgbClr val="000000"/>
              </a:solidFill>
              <a:latin typeface="Arial"/>
            </a:endParaRPr>
          </a:p>
        </p:txBody>
      </p:sp>
      <p:sp>
        <p:nvSpPr>
          <p:cNvPr id="110" name="Text Box 4"/>
          <p:cNvSpPr/>
          <p:nvPr/>
        </p:nvSpPr>
        <p:spPr>
          <a:xfrm>
            <a:off x="5438160" y="5950080"/>
            <a:ext cx="288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omasz Świderek, TELCO.P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12"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D73B-34F9-4247-ADCC-668B8D4E9BB9}"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13"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nsekwencje niskich stawek MTR</a:t>
            </a:r>
            <a:endParaRPr b="0" lang="en-US" sz="3200" spc="-1" strike="noStrike">
              <a:solidFill>
                <a:srgbClr val="000000"/>
              </a:solidFill>
              <a:latin typeface="Arial"/>
            </a:endParaRPr>
          </a:p>
        </p:txBody>
      </p:sp>
      <p:sp>
        <p:nvSpPr>
          <p:cNvPr id="114"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korzystny wpływ kryzysu gospodarczego</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adek popytu na usługi</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wałtowny spadek wartości złotówki, w sytuacji w której główne zakupy realizowane są w walutach.</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Niższe MTR operatorów polskich powodują transfer kapitału do innych krajów, ponieważ płacimy za zakańczanie połączeń międzynarodowych drożej niż zarabiamy</a:t>
            </a:r>
            <a:endParaRPr b="0" lang="en-US" sz="16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orsze wyniki finansowe:</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niki finansowe operatorów za pierwszy kwartał 2009 pokazują spadek przychodów i gwałtowny spadek zysków (nawet o kilkadziesiąt procent w relacji do 1Q2008)</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zacuje się, że branża straci ok. 2-2,5 mld PLN w 2009 i 3 mld. w 2010 roku</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bniżenie poziomu wydatków inwestycyjnych w sektorze telekomunikacyjnym wyniosło około 9% w porównaniu z 2007 r.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godnie z „Raportem o stanie Rynku za 2008 r.” opracowanym przez Prezesa UKE dla największych operatorów na rynku w 2008 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znacza to również spadek podatków do budżetu państwa w tym okresie o ok. 0,5 ml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16"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41FF-D7CC-47E4-BBCD-846A68A5DB76}"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nsekwencje niskich stawek MTR</a:t>
            </a:r>
            <a:endParaRPr b="0" lang="en-US" sz="3200" spc="-1" strike="noStrike">
              <a:solidFill>
                <a:srgbClr val="000000"/>
              </a:solidFill>
              <a:latin typeface="Arial"/>
            </a:endParaRPr>
          </a:p>
        </p:txBody>
      </p:sp>
      <p:sp>
        <p:nvSpPr>
          <p:cNvPr id="118"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sekwencją o jest spadek poziomu inwestycji objawiający się:</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adkiem zamówień dla dostawców infrastruktury teleinformatycznej</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mniejszeniem tempa rozwoju rynku telekomunikacyjneg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możliwości likwidacji luki zasięgowej wpływa na pogorszenie jakości świadczenia usług, zarówno usług głosowych, jak i usług dostępu do internetu wymagających stałego zwiększania przepustowości siec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znacza to konieczność wdrożenia przez operatorów dodatkowych programów oszczędnościowy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bija się to na całej branży komórkowej – dostawcy, podwykonawcy, et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bija się na branży informatycznej – zmniejszenie portfela zamówień</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20"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D9D3-83A6-4A87-BC98-DDADFBCBCDEE}"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21"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iepewność co do dalszych działań Regulatora</a:t>
            </a:r>
            <a:endParaRPr b="0" lang="en-US" sz="3200" spc="-1" strike="noStrike">
              <a:solidFill>
                <a:srgbClr val="000000"/>
              </a:solidFill>
              <a:latin typeface="Arial"/>
            </a:endParaRPr>
          </a:p>
        </p:txBody>
      </p:sp>
      <p:sp>
        <p:nvSpPr>
          <p:cNvPr id="122"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rzeczne sygnały prasowe:</a:t>
            </a:r>
            <a:endParaRPr b="0" lang="en-US" sz="18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wiad z początku roku – MTR = 9 gr. w styczniu 2010,</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formacje z konferencji – Prezes UKE rozważa wprowadzenie bill&amp;keep, czyli MTR = 0,</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wiad z początku maja – kolejne obniżki MTR będą w lutym a może marcu 2010,</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wiad z końca maja – Prezes UKE planuje MTR ok. 7 gr. do końca 2011r</a:t>
            </a:r>
            <a:endParaRPr b="0" lang="en-US" sz="1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kutki zmienności i niepewności obowiązywania decyzji administracyjnych:</a:t>
            </a:r>
            <a:endParaRPr b="0" lang="en-US" sz="18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prowadza stan niepewności regulacyjn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burza proces budowania biznes-planów, jak i planowania zwrotu z długoterminowych inwestycj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egatywnie wpływa na zwiększanie efektywności poszczególnych podmiotów</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łabia możliwość pozyskania inwestorów zainteresowanych rynkiem polski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24"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D56E-1069-47CE-9638-237B1A77F094}"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25"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nkluzje</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Czy MNO muszą podejmować decyzje budżetowe o stawkach MTR w warunkach niepewności co do przyszłości?</a:t>
            </a: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To jest dopiero pierwsza oficjalna dyskusja temat wysokości MTR, asymetrii MTR oraz potencjalnego wpływu wdrożenia publikowanych pomysłów na całą branżę.</a:t>
            </a: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Zasadne jest pytanie czy są przeprowadzane jakiekolwiek analizy skutków tych zmian? </a:t>
            </a:r>
            <a:endParaRPr b="0" lang="en-US" sz="1600" spc="-1" strike="noStrike">
              <a:solidFill>
                <a:srgbClr val="000000"/>
              </a:solidFill>
              <a:latin typeface="Arial"/>
            </a:endParaRPr>
          </a:p>
          <a:p>
            <a:pPr lvl="1" marL="743040" indent="-285840" algn="just">
              <a:spcBef>
                <a:spcPts val="3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Na przykład: Jakie byłyby koszty zmiany metody rozliczeń na bill&amp;keep i co za tym idzie sposobu naliczania stawek detalicznych na RPP (płatność za połączenia odbierane) ?</a:t>
            </a:r>
            <a:endParaRPr b="0" lang="en-US" sz="14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3366"/>
                </a:solidFill>
                <a:latin typeface="Arial"/>
              </a:rPr>
              <a:t>Co MNO mają wpisać do opracowywanego właśnie budżetu na rok 2010?</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3366"/>
                </a:solidFill>
                <a:latin typeface="Arial"/>
              </a:rPr>
              <a:t>MNO wnoszą o wstrzymanie dalszych obniżek stawek MTR do czasu uzyskania skali średniej europejskiej.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128"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9344-FFB9-4721-805D-B56F53E2211E}"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129"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umowanie</a:t>
            </a:r>
            <a:endParaRPr b="0" lang="en-US" sz="3200" spc="-1" strike="noStrike">
              <a:solidFill>
                <a:srgbClr val="000000"/>
              </a:solidFill>
              <a:latin typeface="Arial"/>
            </a:endParaRPr>
          </a:p>
        </p:txBody>
      </p:sp>
      <p:sp>
        <p:nvSpPr>
          <p:cNvPr id="130" name=""/>
          <p:cNvSpPr txBox="1"/>
          <p:nvPr/>
        </p:nvSpPr>
        <p:spPr>
          <a:xfrm>
            <a:off x="673200" y="1816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MNO mają prawie najniższe stawki MTR w UE – znacznie poniżej średniej U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MNO mają już znacząco obniżony potencjał finansowy na inwestycj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ZYS JESZCZE SIĘ NIE SKOŃCZY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elem regulacji jest stworzenie równych warunków działania dla wszystkich MN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E zwraca Prezesowi UKE uwagę na konieczność kosztowego określania wysokości stawek MTR oraz  przewidywalnego rozkładu jego wprowadzan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osimy Prezesa UKE, aby korzystał ze swoich uprawnień i wydawał decyzje o nowych stawkach MTR równocześnie wszystkim MN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oponujemy zamrożenie dalszego obniżania stawki MTR do czasu zrównania ze średnią europejsk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58"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A727-FCA0-4BDC-A959-5ADC8BF846F7}"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59"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genda prezentacji</a:t>
            </a:r>
            <a:endParaRPr b="0" lang="en-US" sz="3200" spc="-1" strike="noStrike">
              <a:solidFill>
                <a:srgbClr val="000000"/>
              </a:solidFill>
              <a:latin typeface="Arial"/>
            </a:endParaRPr>
          </a:p>
        </p:txBody>
      </p:sp>
      <p:sp>
        <p:nvSpPr>
          <p:cNvPr id="60"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yskusja stawek MTR dla 3.M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symetria stawek MTR dla n.M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yskusja stawek MTR dla MVN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3.MNO </a:t>
            </a:r>
            <a:r>
              <a:rPr b="0" lang="pl-PL" sz="2400" spc="-1" strike="noStrike">
                <a:solidFill>
                  <a:srgbClr val="000000"/>
                </a:solidFill>
                <a:latin typeface="Arial"/>
              </a:rPr>
              <a:t>	</a:t>
            </a:r>
            <a:r>
              <a:rPr b="0" lang="pl-PL" sz="2400" spc="-1" strike="noStrike">
                <a:solidFill>
                  <a:srgbClr val="000000"/>
                </a:solidFill>
                <a:latin typeface="Arial"/>
              </a:rPr>
              <a:t>– POLKOMTEL, PTC, P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MNO </a:t>
            </a:r>
            <a:r>
              <a:rPr b="0" lang="pl-PL" sz="2400" spc="-1" strike="noStrike">
                <a:solidFill>
                  <a:srgbClr val="000000"/>
                </a:solidFill>
                <a:latin typeface="Arial"/>
              </a:rPr>
              <a:t>	</a:t>
            </a:r>
            <a:r>
              <a:rPr b="0" lang="pl-PL" sz="2400" spc="-1" strike="noStrike">
                <a:solidFill>
                  <a:srgbClr val="000000"/>
                </a:solidFill>
                <a:latin typeface="Arial"/>
              </a:rPr>
              <a:t>– P4, Cyfrowy Pols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VNO </a:t>
            </a:r>
            <a:r>
              <a:rPr b="0" lang="pl-PL" sz="2400" spc="-1" strike="noStrike">
                <a:solidFill>
                  <a:srgbClr val="000000"/>
                </a:solidFill>
                <a:latin typeface="Arial"/>
              </a:rPr>
              <a:t>	</a:t>
            </a:r>
            <a:r>
              <a:rPr b="0" lang="pl-PL"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62"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3FCD-7B75-4A45-810E-256FC827D299}"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63" name="Rectangle 4"/>
          <p:cNvSpPr/>
          <p:nvPr/>
        </p:nvSpPr>
        <p:spPr>
          <a:xfrm>
            <a:off x="684360" y="412920"/>
            <a:ext cx="7691400" cy="984240"/>
          </a:xfrm>
          <a:prstGeom prst="rect">
            <a:avLst/>
          </a:prstGeom>
          <a:noFill/>
          <a:ln w="0">
            <a:noFill/>
          </a:ln>
        </p:spPr>
        <p:style>
          <a:lnRef idx="0"/>
          <a:fillRef idx="0"/>
          <a:effectRef idx="0"/>
          <a:fontRef idx="minor"/>
        </p:style>
        <p:txBody>
          <a:bodyPr lIns="0" rIns="0" tIns="0" bIns="0" anchor="t">
            <a:no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Historia zmian stawek MTR</a:t>
            </a:r>
            <a:endParaRPr b="0" lang="en-US" sz="3200" spc="-1" strike="noStrike">
              <a:solidFill>
                <a:srgbClr val="000000"/>
              </a:solidFill>
              <a:latin typeface="Arial"/>
            </a:endParaRPr>
          </a:p>
        </p:txBody>
      </p:sp>
      <p:sp>
        <p:nvSpPr>
          <p:cNvPr id="65" name="PlaceHolder 2"/>
          <p:cNvSpPr>
            <a:spLocks noGrp="1"/>
          </p:cNvSpPr>
          <p:nvPr>
            <p:ph/>
          </p:nvPr>
        </p:nvSpPr>
        <p:spPr>
          <a:xfrm>
            <a:off x="672840" y="1816200"/>
            <a:ext cx="454644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6.04.2007 r. - Regulator, wydając decyzję administracyjną ustalił harmonogram zmiany stawek MTR dla trzech operatorów sieci komórkowej do maja 2010 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0.09.2008 r. - Regulator wydał kolejną decyzję w tej samej sprawie zmieniając wcześniejsze ustalenia i przyśpieszając redukcję stawek MTR o prawie 1,5 roku.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5867280" y="2060640"/>
          <a:ext cx="2803680" cy="2386080"/>
        </p:xfrm>
        <a:graphic>
          <a:graphicData uri="http://schemas.openxmlformats.org/drawingml/2006/table">
            <a:tbl>
              <a:tblPr/>
              <a:tblGrid>
                <a:gridCol w="1076400"/>
                <a:gridCol w="863640"/>
                <a:gridCol w="86364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ecyzja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ecyzja 20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05.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4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05.200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3,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01.200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1,6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05.200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7,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07.200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6,7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05.20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1,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68"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1634-1B14-4C81-BE9D-D8825464D162}"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Historia stawki MTR</a:t>
            </a:r>
            <a:endParaRPr b="0" lang="en-US" sz="3600" spc="-1" strike="noStrike">
              <a:solidFill>
                <a:srgbClr val="000000"/>
              </a:solidFill>
              <a:latin typeface="Arial"/>
            </a:endParaRPr>
          </a:p>
        </p:txBody>
      </p:sp>
      <p:pic>
        <p:nvPicPr>
          <p:cNvPr id="70" name="Object 6" descr=""/>
          <p:cNvPicPr/>
          <p:nvPr/>
        </p:nvPicPr>
        <p:blipFill>
          <a:blip r:embed="rId1"/>
          <a:stretch/>
        </p:blipFill>
        <p:spPr>
          <a:xfrm>
            <a:off x="539640" y="1508040"/>
            <a:ext cx="7345440" cy="4297320"/>
          </a:xfrm>
          <a:prstGeom prst="rect">
            <a:avLst/>
          </a:prstGeom>
          <a:ln w="0">
            <a:noFill/>
          </a:ln>
          <a:effectLst>
            <a:outerShdw dist="107932" dir="18900000" blurRad="0" rotWithShape="0">
              <a:srgbClr val="808080">
                <a:alpha val="50000"/>
              </a:srgbClr>
            </a:outerShdw>
          </a:effectLst>
        </p:spPr>
      </p:pic>
      <p:sp>
        <p:nvSpPr>
          <p:cNvPr id="71" name="Text Box 8"/>
          <p:cNvSpPr/>
          <p:nvPr/>
        </p:nvSpPr>
        <p:spPr>
          <a:xfrm>
            <a:off x="2988360" y="3860640"/>
            <a:ext cx="819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1maja200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21,62</a:t>
            </a:r>
            <a:endParaRPr b="0" lang="en-US" sz="1000" spc="-1" strike="noStrike">
              <a:solidFill>
                <a:srgbClr val="000000"/>
              </a:solidFill>
              <a:latin typeface="Arial"/>
            </a:endParaRPr>
          </a:p>
        </p:txBody>
      </p:sp>
      <p:sp>
        <p:nvSpPr>
          <p:cNvPr id="72" name="Text Box 9"/>
          <p:cNvSpPr/>
          <p:nvPr/>
        </p:nvSpPr>
        <p:spPr>
          <a:xfrm>
            <a:off x="3852000" y="4149720"/>
            <a:ext cx="819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1lipca200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16,77</a:t>
            </a:r>
            <a:endParaRPr b="0" lang="en-US" sz="1000" spc="-1" strike="noStrike">
              <a:solidFill>
                <a:srgbClr val="000000"/>
              </a:solidFill>
              <a:latin typeface="Arial"/>
            </a:endParaRPr>
          </a:p>
        </p:txBody>
      </p:sp>
      <p:sp>
        <p:nvSpPr>
          <p:cNvPr id="73" name="Text Box 10"/>
          <p:cNvSpPr/>
          <p:nvPr/>
        </p:nvSpPr>
        <p:spPr>
          <a:xfrm>
            <a:off x="5293800" y="429264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75"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1518-7EAD-4E41-9C41-0A9A823F5E88}"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artość stawki MTR w PLN i €</a:t>
            </a:r>
            <a:endParaRPr b="0" lang="en-US" sz="3200" spc="-1" strike="noStrike">
              <a:solidFill>
                <a:srgbClr val="000000"/>
              </a:solidFill>
              <a:latin typeface="Arial"/>
            </a:endParaRPr>
          </a:p>
        </p:txBody>
      </p:sp>
      <p:graphicFrame>
        <p:nvGraphicFramePr>
          <p:cNvPr id="77" name=""/>
          <p:cNvGraphicFramePr/>
          <p:nvPr/>
        </p:nvGraphicFramePr>
        <p:xfrm>
          <a:off x="2484360" y="1773360"/>
          <a:ext cx="3022560" cy="3276360"/>
        </p:xfrm>
        <a:graphic>
          <a:graphicData uri="http://schemas.openxmlformats.org/drawingml/2006/table">
            <a:tbl>
              <a:tblPr/>
              <a:tblGrid>
                <a:gridCol w="1511280"/>
                <a:gridCol w="1511280"/>
              </a:tblGrid>
              <a:tr h="5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3300"/>
                          </a:solidFill>
                          <a:latin typeface="Arial"/>
                        </a:rPr>
                        <a:t>PL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3300"/>
                          </a:solidFill>
                          <a:latin typeface="Arial"/>
                        </a:rPr>
                        <a:t>EU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5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59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129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4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08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338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07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216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04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167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0,03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pole tekstowe 21"/>
          <p:cNvSpPr/>
          <p:nvPr/>
        </p:nvSpPr>
        <p:spPr>
          <a:xfrm>
            <a:off x="1481760" y="5157720"/>
            <a:ext cx="493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g kursu średniego NBP na dzień 21.06.200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80"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818E-761E-41ED-ABDB-C913ECEFA68E}"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81"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awki MTR w UE</a:t>
            </a:r>
            <a:endParaRPr b="0" lang="en-US" sz="3200" spc="-1" strike="noStrike">
              <a:solidFill>
                <a:srgbClr val="000000"/>
              </a:solidFill>
              <a:latin typeface="Arial"/>
            </a:endParaRPr>
          </a:p>
        </p:txBody>
      </p:sp>
      <p:sp>
        <p:nvSpPr>
          <p:cNvPr id="82" name="PlaceHolder 2"/>
          <p:cNvSpPr>
            <a:spLocks noGrp="1"/>
          </p:cNvSpPr>
          <p:nvPr>
            <p:ph/>
          </p:nvPr>
        </p:nvSpPr>
        <p:spPr>
          <a:xfrm>
            <a:off x="684360" y="1483920"/>
            <a:ext cx="8229600" cy="1181160"/>
          </a:xfrm>
          <a:prstGeom prst="rect">
            <a:avLst/>
          </a:prstGeom>
          <a:noFill/>
          <a:ln w="0">
            <a:noFill/>
          </a:ln>
        </p:spPr>
        <p:txBody>
          <a:bodyPr anchor="t">
            <a:normAutofit/>
          </a:bodyPr>
          <a:p>
            <a:pPr marL="343080" indent="-343080">
              <a:spcAft>
                <a:spcPts val="4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benchmarków ERG za styczeń 2009 r. wynika, że najniższa stawka MTR dla Polski wynosi 0,0476 €/min., przy średniej europejskiej równej 0,0792 €/min, co plasuje Polskę na 4 miejscu pod względem najniższych  w Europie stawek MTR, wyprzedza nas jedynie Cypr (0,0201 €/min.), Szwecja (0,0393 €/min.) i Finlandia (0,0502 €/mi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Picture 4" descr=""/>
          <p:cNvPicPr/>
          <p:nvPr/>
        </p:nvPicPr>
        <p:blipFill>
          <a:blip r:embed="rId1"/>
          <a:stretch/>
        </p:blipFill>
        <p:spPr>
          <a:xfrm>
            <a:off x="684360" y="2565360"/>
            <a:ext cx="7272360" cy="3378240"/>
          </a:xfrm>
          <a:prstGeom prst="rect">
            <a:avLst/>
          </a:prstGeom>
          <a:ln w="0">
            <a:noFill/>
          </a:ln>
        </p:spPr>
      </p:pic>
      <p:sp>
        <p:nvSpPr>
          <p:cNvPr id="84" name="Line 5"/>
          <p:cNvSpPr/>
          <p:nvPr/>
        </p:nvSpPr>
        <p:spPr>
          <a:xfrm>
            <a:off x="755640" y="4653000"/>
            <a:ext cx="7345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86"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25F7-13A7-4B65-8852-A522C92F242B}"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87"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tawki MTR w Europie</a:t>
            </a:r>
            <a:endParaRPr b="0" lang="en-US" sz="3200" spc="-1" strike="noStrike">
              <a:solidFill>
                <a:srgbClr val="000000"/>
              </a:solidFill>
              <a:latin typeface="Arial"/>
            </a:endParaRPr>
          </a:p>
        </p:txBody>
      </p:sp>
      <p:sp>
        <p:nvSpPr>
          <p:cNvPr id="88" name="Rectangle 3"/>
          <p:cNvSpPr/>
          <p:nvPr/>
        </p:nvSpPr>
        <p:spPr>
          <a:xfrm>
            <a:off x="611280" y="1413000"/>
            <a:ext cx="7921440" cy="5111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Text Box 4"/>
          <p:cNvSpPr/>
          <p:nvPr/>
        </p:nvSpPr>
        <p:spPr>
          <a:xfrm>
            <a:off x="8190000" y="6556320"/>
            <a:ext cx="55872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000" spc="-1" strike="noStrike">
                <a:solidFill>
                  <a:srgbClr val="c0c0c0"/>
                </a:solidFill>
                <a:latin typeface="ITC Avant Garde Gothic"/>
              </a:rPr>
              <a:t>-  </a:t>
            </a:r>
            <a:fld id="{38808E6B-79CD-4985-AB8A-7583D4089918}" type="slidenum">
              <a:rPr b="0" lang="pl-PL" sz="1000" spc="-1" strike="noStrike">
                <a:solidFill>
                  <a:srgbClr val="c0c0c0"/>
                </a:solidFill>
                <a:latin typeface="ITC Avant Garde Gothic"/>
              </a:rPr>
              <a:t>&lt;number&gt;</a:t>
            </a:fld>
            <a:r>
              <a:rPr b="0" lang="pl-PL" sz="1000" spc="-1" strike="noStrike">
                <a:solidFill>
                  <a:srgbClr val="c0c0c0"/>
                </a:solidFill>
                <a:latin typeface="ITC Avant Garde Gothic"/>
              </a:rPr>
              <a:t> -</a:t>
            </a:r>
            <a:endParaRPr b="0" lang="en-US" sz="1000" spc="-1" strike="noStrike">
              <a:solidFill>
                <a:srgbClr val="000000"/>
              </a:solidFill>
              <a:latin typeface="Arial"/>
            </a:endParaRPr>
          </a:p>
        </p:txBody>
      </p:sp>
      <p:pic>
        <p:nvPicPr>
          <p:cNvPr id="90" name="Picture 5" descr=""/>
          <p:cNvPicPr/>
          <p:nvPr/>
        </p:nvPicPr>
        <p:blipFill>
          <a:blip r:embed="rId1"/>
          <a:stretch/>
        </p:blipFill>
        <p:spPr>
          <a:xfrm>
            <a:off x="179280" y="1557360"/>
            <a:ext cx="7993080" cy="418932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92"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DA48-9B3E-451C-B01A-6A3819E33D72}"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ktualności ze świata</a:t>
            </a:r>
            <a:endParaRPr b="0" lang="en-US" sz="3200" spc="-1" strike="noStrike">
              <a:solidFill>
                <a:srgbClr val="000000"/>
              </a:solidFill>
              <a:latin typeface="Arial"/>
            </a:endParaRPr>
          </a:p>
        </p:txBody>
      </p:sp>
      <p:sp>
        <p:nvSpPr>
          <p:cNvPr id="94" name="PlaceHolder 2"/>
          <p:cNvSpPr>
            <a:spLocks noGrp="1"/>
          </p:cNvSpPr>
          <p:nvPr>
            <p:ph/>
          </p:nvPr>
        </p:nvSpPr>
        <p:spPr>
          <a:xfrm>
            <a:off x="673200" y="1815840"/>
            <a:ext cx="8229600" cy="34131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1" lang="pl-PL" sz="1600" spc="-1" strike="noStrike">
                <a:solidFill>
                  <a:srgbClr val="000000"/>
                </a:solidFill>
                <a:latin typeface="Arial"/>
              </a:rPr>
              <a:t>MCA declares new MTRs applicable from 15 June (Mal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ay 15th, 2009,11:48 a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ww.WirelessFederation.com/news: MCA, the Maltese telecommunication authority has declared new mobile termination rates, MTR, will be applicable to all mobile operators as of 15 June 2009.  The MCA has decided to set the MTRs in accordance with the average yearly percentage reduction in the EU 27 average MTR. According to the MCA’s decision Vodafone Malta and Go will have to charge an MTR of EUR 0.0866 as the new MTR from 15 June 2009 until 15 June 2010. The present MTR of EUR 0.0962 will be applicable until 14 June.</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p:txBody>
      </p:sp>
      <p:pic>
        <p:nvPicPr>
          <p:cNvPr id="95" name="Picture 6" descr=" "/>
          <p:cNvPicPr/>
          <p:nvPr/>
        </p:nvPicPr>
        <p:blipFill>
          <a:blip r:embed="rId1"/>
          <a:stretch/>
        </p:blipFill>
        <p:spPr>
          <a:xfrm>
            <a:off x="-4367160" y="2865600"/>
            <a:ext cx="209520" cy="209520"/>
          </a:xfrm>
          <a:prstGeom prst="rect">
            <a:avLst/>
          </a:prstGeom>
          <a:ln w="0">
            <a:noFill/>
          </a:ln>
        </p:spPr>
      </p:pic>
      <p:sp>
        <p:nvSpPr>
          <p:cNvPr id="96" name="Text Box 9"/>
          <p:cNvSpPr/>
          <p:nvPr/>
        </p:nvSpPr>
        <p:spPr>
          <a:xfrm>
            <a:off x="3263400" y="4673520"/>
            <a:ext cx="485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rPr>
              <a:t>MALTA: redukcja wg średniej EU:  0,096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ymbol zastępczy stopki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2009  3.MNO &amp; PIIT</a:t>
            </a:r>
            <a:endParaRPr b="0" lang="en-US" sz="1400" spc="-1" strike="noStrike">
              <a:solidFill>
                <a:srgbClr val="000000"/>
              </a:solidFill>
              <a:latin typeface="Arial"/>
            </a:endParaRPr>
          </a:p>
        </p:txBody>
      </p:sp>
      <p:sp>
        <p:nvSpPr>
          <p:cNvPr id="98" name="Symbol zastępczy numeru slajdu 2"/>
          <p:cNvSpPr/>
          <p:nvPr/>
        </p:nvSpPr>
        <p:spPr>
          <a:xfrm>
            <a:off x="8244000" y="6165720"/>
            <a:ext cx="6825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50B6-A6CE-4594-889A-B26FAF82128C}" type="slidenum">
              <a:rPr b="1"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title"/>
          </p:nvPr>
        </p:nvSpPr>
        <p:spPr>
          <a:xfrm>
            <a:off x="45684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ktualności ze świata</a:t>
            </a:r>
            <a:endParaRPr b="0" lang="en-US" sz="3200" spc="-1" strike="noStrike">
              <a:solidFill>
                <a:srgbClr val="000000"/>
              </a:solidFill>
              <a:latin typeface="Arial"/>
            </a:endParaRPr>
          </a:p>
        </p:txBody>
      </p:sp>
      <p:sp>
        <p:nvSpPr>
          <p:cNvPr id="100" name="PlaceHolder 2"/>
          <p:cNvSpPr>
            <a:spLocks noGrp="1"/>
          </p:cNvSpPr>
          <p:nvPr>
            <p:ph/>
          </p:nvPr>
        </p:nvSpPr>
        <p:spPr>
          <a:xfrm>
            <a:off x="673200" y="1816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1" lang="pl-PL" sz="1600" spc="-1" strike="noStrike">
                <a:solidFill>
                  <a:srgbClr val="000000"/>
                </a:solidFill>
                <a:latin typeface="Arial"/>
              </a:rPr>
              <a:t>3 Ireland to slash MTR from Jan’1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pril 27th, 2009 12:09 p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ww.WirelessFederation.com/news: 3 Ireland will slash its Mobile Termination Rates (MTR) from the beginning of January 2010. Ireland’s Commission for Communications Regulation (ComReg) ordered Hutchison 3G Ireland (3 Ireland) to reduce wholesale rates for voice call termination on its network, in December 2008. ComReg has already imposed a price control on 3 to address its position of dominance in the provision of call termination services to end-subscribers. Every Year, operators of Ireland will cut termination rates on 1 Jan, down to an average rate of EUR 0.05 per minute by 1 January 2013. </a:t>
            </a:r>
            <a:endParaRPr b="0" lang="en-US" sz="1600" spc="-1" strike="noStrike">
              <a:solidFill>
                <a:srgbClr val="000000"/>
              </a:solidFill>
              <a:latin typeface="Arial"/>
            </a:endParaRPr>
          </a:p>
        </p:txBody>
      </p:sp>
      <p:sp>
        <p:nvSpPr>
          <p:cNvPr id="101" name="Text Box 4"/>
          <p:cNvSpPr/>
          <p:nvPr/>
        </p:nvSpPr>
        <p:spPr>
          <a:xfrm>
            <a:off x="3780000" y="503244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Arial"/>
              </a:rPr>
              <a:t>Stawka MTR od 1.01.2013 :  0,0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15:29:30Z</dcterms:created>
  <dc:creator>Wacław Iszkowski</dc:creator>
  <dc:description/>
  <dc:language>en-US</dc:language>
  <cp:lastModifiedBy>Anna Lewandowska</cp:lastModifiedBy>
  <dcterms:modified xsi:type="dcterms:W3CDTF">2009-06-26T08:56:45Z</dcterms:modified>
  <cp:revision>12</cp:revision>
  <dc:subject/>
  <dc:title>Slajd 1</dc:title>
</cp:coreProperties>
</file>